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ED0-824F-4EAD-876B-6D6981E2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116-1D94-440E-B42C-322BF45A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8E-43D0-4263-A83C-53805AD6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748-96C2-46FA-8CDB-ABAA8751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B8E-856B-4BED-BA81-93232679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DC3-260F-4801-85F6-4C6D2A8A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CBF-2564-4F50-871C-208208B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30E-5F5F-465B-9807-516ACA7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18F-C948-4DCC-BC20-49872B7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5A6-EE18-4050-A54C-01073EB1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B50-8A31-4D1D-95F9-B0867F3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B7A-8D5A-46F8-B63F-5BECFC25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2EB7-75F4-45AE-9982-5D8916C15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soldat"/>
          <p:cNvPicPr/>
          <p:nvPr/>
        </p:nvPicPr>
        <p:blipFill>
          <a:blip r:embed="rId1"/>
          <a:stretch/>
        </p:blipFill>
        <p:spPr>
          <a:xfrm>
            <a:off x="2971800" y="19810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121920" y="199080"/>
            <a:ext cx="3574800" cy="581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боры в армию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83600" y="806400"/>
            <a:ext cx="8768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сок необходимых вещей для призывного пун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0320" y="1585800"/>
            <a:ext cx="306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юкз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убная па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убная щё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ы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3760" y="3589200"/>
            <a:ext cx="249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лотенц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од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п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Ни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700080" y="1711080"/>
            <a:ext cx="24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Игол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Лож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Но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987280" y="3741480"/>
            <a:ext cx="313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Круж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Чистое бел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Ру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. Бум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1" descr="pic_2006-02-20_080035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908760" y="1577880"/>
            <a:ext cx="1803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2847240" y="-720"/>
            <a:ext cx="38642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cc99"/>
              </a:gs>
              <a:gs pos="100000">
                <a:srgbClr val="cc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Армейский сленг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70720" y="5212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б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84320" y="1046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еннослужащий, закончивший срочную службу в арм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40400" y="215892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ала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21400" y="2702520"/>
            <a:ext cx="38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 новобра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09520" y="3186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ерп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67760" y="36637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лдат,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315000" y="42663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у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224000" y="43372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зывник, еще не принявший прися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17800" y="52761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104760" y="592128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арослужащий сол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5486400" y="1770120"/>
            <a:ext cx="3219480" cy="2415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"/>
          <p:cNvPicPr/>
          <p:nvPr/>
        </p:nvPicPr>
        <p:blipFill>
          <a:blip r:embed="rId2"/>
          <a:stretch/>
        </p:blipFill>
        <p:spPr>
          <a:xfrm>
            <a:off x="6215040" y="4527720"/>
            <a:ext cx="26668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ww.arms-expo.ru/upload/iblock/be6/be620c076e22b4b054916fa724a5d113.jpg"/>
          <p:cNvPicPr/>
          <p:nvPr/>
        </p:nvPicPr>
        <p:blipFill>
          <a:blip r:embed="rId1"/>
          <a:stretch/>
        </p:blipFill>
        <p:spPr>
          <a:xfrm>
            <a:off x="-17640" y="-95400"/>
            <a:ext cx="3598920" cy="216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-17640" y="2286000"/>
            <a:ext cx="3171960" cy="267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344760" y="2176560"/>
            <a:ext cx="2851200" cy="201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3151080" y="4962600"/>
            <a:ext cx="307368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6224760" y="-14400"/>
            <a:ext cx="29192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5" descr="2561440[1]"/>
          <p:cNvPicPr/>
          <p:nvPr/>
        </p:nvPicPr>
        <p:blipFill>
          <a:blip r:embed="rId1"/>
          <a:stretch/>
        </p:blipFill>
        <p:spPr>
          <a:xfrm>
            <a:off x="628488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5120" y="972720"/>
            <a:ext cx="55436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нозоркого мне дал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ко мне приблизил да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850680" y="226908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нок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1680" y="2971800"/>
            <a:ext cx="5715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2561440[1]"/>
          <p:cNvPicPr/>
          <p:nvPr/>
        </p:nvPicPr>
        <p:blipFill>
          <a:blip r:embed="rId1"/>
          <a:stretch/>
        </p:blipFill>
        <p:spPr>
          <a:xfrm>
            <a:off x="6253200" y="3759120"/>
            <a:ext cx="2819520" cy="312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36680" y="884160"/>
            <a:ext cx="430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евушка» ход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сню заво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г услыш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зу не дыш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29160" y="327564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Катюш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6477120" y="182520"/>
            <a:ext cx="2408040" cy="355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966960" y="3797280"/>
            <a:ext cx="41385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5" descr="2561440[1]"/>
          <p:cNvPicPr/>
          <p:nvPr/>
        </p:nvPicPr>
        <p:blipFill>
          <a:blip r:embed="rId1"/>
          <a:stretch/>
        </p:blipFill>
        <p:spPr>
          <a:xfrm>
            <a:off x="6323040" y="371484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97720" y="592560"/>
            <a:ext cx="35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горе-го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ят стар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хн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глох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410800" y="11898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4520" y="2971800"/>
            <a:ext cx="4825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14280" y="442440"/>
            <a:ext cx="387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зёт черепа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ьная руб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г – в о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на, где вра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91200" y="266436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нк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62520" y="1087560"/>
            <a:ext cx="5016240" cy="3735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85800" y="4165560"/>
            <a:ext cx="1981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5" descr="2561440[1]"/>
          <p:cNvPicPr/>
          <p:nvPr/>
        </p:nvPicPr>
        <p:blipFill>
          <a:blip r:embed="rId1"/>
          <a:stretch/>
        </p:blipFill>
        <p:spPr>
          <a:xfrm>
            <a:off x="38160" y="36385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809880" y="121320"/>
            <a:ext cx="186336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ад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2120" y="668520"/>
            <a:ext cx="42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свято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изны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очью, и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годе любо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082120" y="103572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грани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772080" y="2906640"/>
            <a:ext cx="52178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5840" y="917640"/>
            <a:ext cx="85341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 ком в армии говорят, что они ошибаются один раз в жи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760" y="220968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о сапё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895480" y="186840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880" y="992160"/>
            <a:ext cx="8876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 называется здание, в котором живут солда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44240" y="18921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казар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75280" y="16765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-68400" y="4267080"/>
            <a:ext cx="3984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9080" y="974160"/>
            <a:ext cx="89154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ак называют бойца, владеющего искусством меткой стрельбы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1680" y="215964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снайп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495680" y="3600360"/>
            <a:ext cx="4687920" cy="321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-36360" y="3581280"/>
            <a:ext cx="4721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133720" y="720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8280" y="711000"/>
            <a:ext cx="4191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Что такое камуфляж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9080" y="12369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киров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метов путём окраски полосами, пятнами, искажающими их очерта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362320" cy="361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2313000"/>
            <a:ext cx="1905120" cy="20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46767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-26640" y="847800"/>
            <a:ext cx="6976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акие головные уборы носят солдаты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3320" y="155412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фураж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илот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а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26320" y="985680"/>
            <a:ext cx="2190600" cy="27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52280" y="2076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133720" y="4224240"/>
            <a:ext cx="3956040" cy="259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34040" y="3981600"/>
            <a:ext cx="1859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133720" y="227880"/>
            <a:ext cx="5364000" cy="581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ужит Родине солдат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8320" y="788760"/>
            <a:ext cx="5450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Что такое наряд вне очеред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2640" y="138600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мейское взыскан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ебование выполнить определённую рабо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9080" y="2604600"/>
            <a:ext cx="84582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Как называют наплечные знаки в русской армии и на флоте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33640" y="373284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 пого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по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"/>
          <p:cNvPicPr/>
          <p:nvPr/>
        </p:nvPicPr>
        <p:blipFill>
          <a:blip r:embed="rId1"/>
          <a:stretch/>
        </p:blipFill>
        <p:spPr>
          <a:xfrm>
            <a:off x="609480" y="4282920"/>
            <a:ext cx="2576520" cy="241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2"/>
          <a:stretch/>
        </p:blipFill>
        <p:spPr>
          <a:xfrm>
            <a:off x="6629400" y="4254480"/>
            <a:ext cx="2185920" cy="24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3"/>
          <a:stretch/>
        </p:blipFill>
        <p:spPr>
          <a:xfrm>
            <a:off x="3809880" y="4221000"/>
            <a:ext cx="2405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31840" y="3038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называется смотр войс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316280" y="3801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08880" y="91332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Чем заканчивается успешная вой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087320" y="990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обед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04920" y="1522800"/>
            <a:ext cx="48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Где прячется солдат от пуль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7163640" y="15994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 окоп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34360" y="22086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Военный китель или блюд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5869800" y="22852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картошка в мунд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28600" y="2970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Приспособление для размещения патронов в огнестрель- ном оружии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65440" y="3428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мага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28600" y="40370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Гусеничная военная машина с поворотной артиллерийс- кой башне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7317000" y="449496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та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308160" y="5180400"/>
            <a:ext cx="77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. Чем солдаты защищаются от отравляющих газ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784200" y="56379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ротивога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22119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28600" y="303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. Какого цвета каски носят солдаты миротворческих сил ОО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58880" y="76140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голуб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- цвет мирного не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1103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. Секретное условное слово или фраза, которые используются для опознавания своих людей в караульн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163640" y="19044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а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8600" y="2346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7. Какое подразделение солдат обозначается тем же словом, что и источник питания постоянного электрического ток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164720" y="312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бата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28600" y="3421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. Какое подразделение солдат обозначается тем же словом, что и приспособление в ударном механизм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317000" y="388548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вз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47320" y="426600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. Название какого огнестрельного оружия начинается но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012800" y="47235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евольв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04920" y="4991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. Какое название радиолокационной установки и огнестрельного оружия можно читать как слева направо, так и справа налево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239960" y="57906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ра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2211551[1]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riya</dc:creator>
  <dc:description/>
  <dc:language>en-US</dc:language>
  <cp:lastModifiedBy>NAPetrova</cp:lastModifiedBy>
  <dcterms:modified xsi:type="dcterms:W3CDTF">2020-03-11T00:46:1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